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D09-7E99-47ED-AE61-2F9FDFFC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960-5A22-4491-AB12-2B40B163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B40-6205-46DB-84A7-8E4E90BD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14E-3AE1-47EE-A29B-A0370788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CAF2-6E0B-4FE5-A0A9-EFBD873C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C5D-4D38-4739-98CC-D29258A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C57C-60CD-40E3-9937-550ABE5D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4F48-3F93-4525-AF70-E79959E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7763-7BD8-4314-811B-6DC960B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3A5-8084-4787-9676-1E4ED97D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654A-2CF7-41BA-8A0F-F56977A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4A8-0A81-4900-A46B-45898E33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DE71-35BB-4F81-AAD7-2E40568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DC9B-9421-4B0F-AB55-AFAC0C0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38E9-7785-41DF-81B8-87AF7A65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5772-981B-4967-8651-0D708B0A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C8E8-F682-47E9-B2C3-CB6CFA04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6EAB3-F4E1-42FF-816D-6F0BFE8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60273-E27B-419E-A9A6-8C9A7225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8512-C32B-486B-9D86-AA10E5A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AC5C0-3436-45D3-A6AA-94BBAE2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18E54-3AE6-4059-8483-CAD84964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AE8-CB5B-4B06-A19E-6C0593B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C1069-3FBA-4C3A-89D4-8B67459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B5761-81D2-44E5-85A3-36DA005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0817F-751B-4EBA-A8D9-5401F54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288B5-7FD5-4C4D-BC5D-DEB31A9F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270F5-31CA-4C4F-9A94-B8355FC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1025C-431A-4700-98E2-9518F97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F8718-BA21-4E22-9450-9DDE98AF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4AE2-3A39-4753-84CE-12D1AE4A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1669-4DA9-4357-94F0-8934109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08C0-51B0-4338-9577-A5B9E87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454-AC7B-43DE-93D0-4277E98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7200-F569-4979-94E8-A9DCA24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CA20-7833-4F62-AA7B-0EB288EB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9DF6-FC0E-4C5A-B886-5F3DAA3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C435-F80A-46C2-B9D1-FF9D009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03B1-65AA-43C8-98D8-60B8A25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8811-FD42-4A19-BE2C-B27BFC7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2BE9-24AA-4602-98FA-6C82DC5D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C3BF-FD25-4FAE-8DF0-D00FF84D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BBE7D-D327-426E-A0A1-B04694C0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86E-F773-4594-B958-BAB5CD17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EC7-2B59-4013-913B-D3BFA93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F1D-9B43-4BB0-A686-51B8C1F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EC3-8FDA-4955-94E3-1FE431F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07B-9C13-4E23-B13D-71D539F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56A-F530-43C3-B18E-FE89AB7805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C4B9-57FC-4B6C-B3E4-8D4642ED8D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A733-3E91-41E0-987B-3B357FEF46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F311-3574-4162-BEA7-715AB5D46A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 Cas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Willa Stonecip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Jard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jardin. Es verde, rojo, rosa, y morado. Es muy bell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356868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garaje. Es muy moderno y blanco. Es lujos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3328920" cy="281916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google.com/imgres?um=1&amp;hl=en&amp;biw=1040&amp;bih=894&amp;tbm=isch&amp;tbnid=NpYPNMdsrypQ5M:&amp;imgrefurl=http://www.thelennoxx.com/category/browse-by-room/home-office/page/2/&amp;docid=8SGZKFradINHUM&amp;imgurl=http://www.thelennoxx.com/wp-content/uploads/2012/03/teen-bedroom-contemporary-modern-white-turquoise-red-pattern.jpg&amp;w=810&amp;h=539&amp;ei=q3xZUfbcMtWz4AOk84DIDw&amp;zoom=1&amp;ved=1t:3588,r:9,s:0,i:108&amp;iact=rc&amp;dur=816&amp;page=1&amp;tbnh=174&amp;tbnw=275&amp;start=0&amp;ndsp=18&amp;tx=216&amp;ty=9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1752480"/>
            <a:ext cx="632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um=1&amp;hl=en&amp;sa=X&amp;biw=1040&amp;bih=851&amp;tbm=isch&amp;tbnid=huuzPUCW05yn3M:&amp;imgrefurl=http://homecreativedesign.com/live-comfortably-with-a-simple-house-design.html/classic-simple-home-ideas&amp;docid=gL-Gd0ks_Q6z6M&amp;imgurl=http://homecreativedesign.com/wp-content/uploads/2012/04/classic-simple-home-ideas-1024x768.jpg&amp;w=1024&amp;h=768&amp;ei=OH5ZUYP2BdG64AOoz4DIBg&amp;zoom=1&amp;ved=1t:3588,r:12,s:0,i:183&amp;iact=rc&amp;dur=930&amp;page=1&amp;tbnh=188&amp;tbnw=259&amp;start=0&amp;ndsp=16&amp;tx=126&amp;ty=84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24256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google.com/imgres?um=1&amp;hl=en&amp;biw=1040&amp;bih=851&amp;tbm=isch&amp;tbnid=w-ghwU4tOImVjM:&amp;imgrefurl=http://forums.3dtotal.com/showthread.php%3Ft%3D67698&amp;docid=KXwzBSGnT4x1UM&amp;imgurl=http://forums.3dtotal.com/attachment.php%253Fattachmentid%253D140821%2526stc%253D1%2526d%253D1244654421&amp;w=800&amp;h=600&amp;ei=jX9ZUcqjBdi24APKnoDQAg&amp;zoom=1&amp;ved=1t:3588,r:26,s:0,i:167&amp;iact=rc&amp;dur=1350&amp;page=2&amp;tbnh=169&amp;tbnw=245&amp;start=19&amp;ndsp=21&amp;tx=128&amp;ty=98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3124080"/>
            <a:ext cx="533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hl=en&amp;sa=X&amp;biw=1040&amp;bih=894&amp;tbm=isch&amp;tbnid=ftl84rCacwXApM:&amp;imgrefurl=http://paloma81.blogspot.com/2009/04/dominos-greatest-hits-katie-lee-joel.html&amp;docid=MSNrxHaNRq1rxM&amp;imgurl=http://3.bp.blogspot.com/_FfZMBBaCF8w/SezCW_2x6ZI/AAAAAAAAFuU/l7wFoPR87oc/s400/domino%252Bklj4.jpg&amp;w=354&amp;h=375&amp;ei=lRdbUcreFaex0QHo74CwAQ&amp;zoom=1&amp;ved=1t:3588,r:74,s:0,i:342&amp;iact=rc&amp;dur=1060&amp;page=4&amp;tbnh=185&amp;tbnw=172&amp;start=56&amp;ndsp=20&amp;tx=75&amp;ty=78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38098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Kkx0te8kiZY5SM:&amp;imgrefurl=http://www.laurieflower.com/modern-living-room-color-schemes/cool-living-room-color-schemes-laurieflower-002&amp;docid=118_u5y5I7VW6M&amp;imgurl=http://www.laurieflower.com/wp-content/uploads/2013/01/Cool-Living-Room-Color-Schemes-LaurieFlower-002.jpeg&amp;w=931&amp;h=698&amp;ei=BRpbUdPxL-fV0gGY0IB4&amp;zoom=1&amp;ved=1t:3588,r:11,s:0,i:154&amp;iact=rc&amp;dur=528&amp;page=1&amp;tbnh=186&amp;tbnw=245&amp;start=0&amp;ndsp=16&amp;tx=143&amp;ty=102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426708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-6W3oOelgyspiM:&amp;imgrefurl=http://room-decorating-ideas.com/room-decor-for-young-adults/&amp;docid=XzrVQw9eL0-raM&amp;imgurl=http://room-decorating-ideas.com/wp-content/uploads/2012/06/polo-Bedroom-adullt.jpg&amp;w=1200&amp;h=884&amp;ei=ABtbUdzrJ5O40QH5xYGQCw&amp;zoom=1&amp;ved=1t:3588,r:11,s:0,i:128&amp;iact=rc&amp;dur=387&amp;page=1&amp;tbnh=172&amp;tbnw=218&amp;start=0&amp;ndsp=16&amp;tx=126&amp;ty=11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62120" y="4417200"/>
            <a:ext cx="4343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S7GuGWpVygtE9M:&amp;imgrefurl=http://pinterest.com/lauriewelch/cool-patios/&amp;docid=UHA1cExmEDQ4UM&amp;imgurl=http://media-cache-ec2.pinterest.com/192x/04/a4/e2/04a4e2cd14c34c7e84d84770402e74b3.jpg&amp;w=192&amp;h=255&amp;ei=rBtbUdPAKOf30gHlm4CQBA&amp;zoom=1&amp;ved=1t:3588,r:46,s:0,i:227&amp;iact=rc&amp;dur=519&amp;page=3&amp;tbnh=189&amp;tbnw=153&amp;start=36&amp;ndsp=20&amp;tx=81&amp;ty=49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5181480"/>
            <a:ext cx="48006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x22s2hXUYwkcaM:&amp;imgrefurl=http://www.saltandnectar.com/theblog/2011/8/29/things-i-dont-do.html&amp;docid=kdEiEGN4oRRwrM&amp;imgurl=http://balancedlivinginc.com/images/gardens.jpg&amp;w=2048&amp;h=1536&amp;ei=eh1bUe3rH7P00QGouYGQAQ&amp;zoom=1&amp;ved=1t:3588,r:17,s:0,i:132&amp;iact=rc&amp;dur=407&amp;page=2&amp;tbnh=175&amp;tbnw=221&amp;start=16&amp;ndsp=21&amp;tx=138&amp;ty=85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715000"/>
            <a:ext cx="5664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4VJagDRLe3D16M:&amp;imgrefurl=http://b3-bond.com/modern-world-bathrooms-interior-collection/&amp;docid=zy25Q-mHlc4LJM&amp;imgurl=http://b3-bond.com/wp-content/uploads/2011/04/Cool-and-Comfortable-Bathroom-Interior-Space-570x431.jpg&amp;w=570&amp;h=431&amp;ei=OB5bUcXiCZDp0QHUxoGIDA&amp;zoom=1&amp;ved=1t:3588,r:4,s:0,i:146&amp;iact=rc&amp;dur=663&amp;page=1&amp;tbnh=169&amp;tbnw=226&amp;start=0&amp;ndsp=16&amp;tx=144&amp;ty=8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-75960" y="632160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94&amp;tbm=isch&amp;tbnid=uvM-mfJ1Ul8lQM:&amp;imgrefurl=http://myipamm.net/modern-garage-plans/&amp;docid=MDkYUmlaiRLJIM&amp;imgurl=http://www.alspics.com/wp-content/uploads/2011/05/Modern-Garage-1.jpg&amp;w=560&amp;h=405&amp;ei=zl5cUdLeNuuv0AHL9YAg&amp;zoom=1&amp;ved=1t:3588,r:4,s:0,i:133&amp;iact=rc&amp;dur=1798&amp;page=1&amp;tbnh=182&amp;tbnw=241&amp;start=0&amp;ndsp=16&amp;tx=147&amp;ty=7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74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Cas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una casa. Es muy bonita y estupenda. Es gris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uar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un cuarto.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bella y azule. No es moderno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63520" y="2052720"/>
            <a:ext cx="340056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uar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85840" y="2057040"/>
            <a:ext cx="36241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cuarto. No es fao. Es grande. Es verd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52280" y="2138400"/>
            <a:ext cx="3627720" cy="2671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Sal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sala. Es lujoso. Es blanco y negr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31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oc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cocina. Es muy impresionante y moderno. Es grand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comedor. Es antiguo y grande. Es blanco y negr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02160" y="1901880"/>
            <a:ext cx="2979720" cy="34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" sz="4000" spc="-1" strike="noStrike">
                <a:solidFill>
                  <a:srgbClr val="f7d47d"/>
                </a:solidFill>
                <a:latin typeface="Arial"/>
              </a:rPr>
              <a:t>ñ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b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o. Es moderno y nuevo. Es estupe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452760" cy="30668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patio. No es pequ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o. Es blanc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4:07Z</dcterms:created>
  <dc:creator>stonecipherwil</dc:creator>
  <dc:description/>
  <dc:language>en-US</dc:language>
  <cp:lastModifiedBy>stonecipherwil</cp:lastModifiedBy>
  <dcterms:modified xsi:type="dcterms:W3CDTF">2013-04-04T15:36:28Z</dcterms:modified>
  <cp:revision>38</cp:revision>
  <dc:subject/>
  <dc:title>Mi Casa</dc:title>
</cp:coreProperties>
</file>